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085-7E24-4CEC-B09A-13DCEB8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A8D-0DAD-4113-A695-6AB2B98E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3CF-8AE3-47F9-889C-CD7E4AC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523-46CD-4388-A051-1528A96A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92A-141D-4E2B-A660-4AA07080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F06-A881-4967-B07A-057CB97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82F-A495-41C4-AF28-8559950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216-CA28-409A-9136-ABCB8E7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957-66F2-4DE4-8A44-B462DA6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AEE-14EA-4496-B125-7919C24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976-9A06-47AA-90D6-1834BE5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4F3-209B-4B72-907F-C01BDC4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75D3-89BF-492A-AA4F-292C5D29AB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Cromox Imag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pril 2014 at H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n beam 2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extraction (h=4) every ~2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. of p / extraction = 1.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 1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im of investigation: Afterglow for M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series of data were taken with two intensities stated above with GHTPDF2 (Cromox &amp; IDS CMOS) and a second Cromox &amp; AVT Marlin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mera GHTPDF2 readout via CU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mera settings GHTPDF2: free-run, 10 Hz, 100 ms int. Time, 300 images / series, iris open (5.0 Vo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ysis of BMP images (reduction 10 bit to 8 b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Gap in Series 2 (around No. 4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E9_Blende=5Volt_TimeDependence"/>
          <p:cNvPicPr/>
          <p:nvPr/>
        </p:nvPicPr>
        <p:blipFill>
          <a:blip r:embed="rId1"/>
          <a:stretch/>
        </p:blipFill>
        <p:spPr>
          <a:xfrm>
            <a:off x="228600" y="4016520"/>
            <a:ext cx="4191120" cy="28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E9_24237_89"/>
          <p:cNvPicPr/>
          <p:nvPr/>
        </p:nvPicPr>
        <p:blipFill>
          <a:blip r:embed="rId2"/>
          <a:stretch/>
        </p:blipFill>
        <p:spPr>
          <a:xfrm>
            <a:off x="4952880" y="1219320"/>
            <a:ext cx="4077000" cy="27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E9_YieldAll_Trend_TimeDependence"/>
          <p:cNvPicPr/>
          <p:nvPr/>
        </p:nvPicPr>
        <p:blipFill>
          <a:blip r:embed="rId3"/>
          <a:stretch/>
        </p:blipFill>
        <p:spPr>
          <a:xfrm>
            <a:off x="0" y="1143000"/>
            <a:ext cx="4191120" cy="2841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4415040" y="4267080"/>
            <a:ext cx="472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t estimates of two time constants consi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(t) = exp(p0+p1 x t) + exp(p2+p3 x t) +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1 = 152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2 = 1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3 = 676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cal meaning not def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15520" y="1484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Yield Raw/Binned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. 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E9_5Volt_No86_2DHistoRaw"/>
          <p:cNvPicPr/>
          <p:nvPr/>
        </p:nvPicPr>
        <p:blipFill>
          <a:blip r:embed="rId1"/>
          <a:stretch/>
        </p:blipFill>
        <p:spPr>
          <a:xfrm>
            <a:off x="4505400" y="1676520"/>
            <a:ext cx="4638600" cy="314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1E9_5Volt_No86_2DHisto"/>
          <p:cNvPicPr/>
          <p:nvPr/>
        </p:nvPicPr>
        <p:blipFill>
          <a:blip r:embed="rId2"/>
          <a:stretch/>
        </p:blipFill>
        <p:spPr>
          <a:xfrm>
            <a:off x="0" y="1676520"/>
            <a:ext cx="46386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9, 3.5 Volt, Leichte Übersteuerung im Strahlpu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E9_3"/>
          <p:cNvPicPr/>
          <p:nvPr/>
        </p:nvPicPr>
        <p:blipFill>
          <a:blip r:embed="rId1"/>
          <a:stretch/>
        </p:blipFill>
        <p:spPr>
          <a:xfrm>
            <a:off x="1447920" y="18288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xt beam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or to beam time background images should be stored to check analysis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trigger + sequence to synchronise D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ke pictures for smaller integration times (check for shorter decay 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 the end of the test: Stop beam and take long series of  images with longer integration time (check for long decay after ir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.5x10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proton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No. 12, beam pu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ground subtraction via pre-beam picture not suitable, if signal does not decay between two extractions (build-up effect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imate background from regions outside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s indicate the cut regions for offset and projection (+/- 100 ch. around max.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gh offset correction: Subtract projection of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logic complem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jX(S+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hich yields th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two regions ProjX(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fter normalisation to integral in region outside signal area. Same procedure for 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E8_12_ROI"/>
          <p:cNvPicPr/>
          <p:nvPr/>
        </p:nvPicPr>
        <p:blipFill>
          <a:blip r:embed="rId1"/>
          <a:stretch/>
        </p:blipFill>
        <p:spPr>
          <a:xfrm>
            <a:off x="0" y="1143000"/>
            <a:ext cx="49528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GHTPDF2_20140501_022923_0012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278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982520" y="2514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981080" y="2514600"/>
            <a:ext cx="99072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533520" y="25146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7200" y="350532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34600" y="28195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jX(S+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533520" y="2590920"/>
            <a:ext cx="0" cy="9903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4451400" y="251460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533520" y="14479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82760" y="245124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533520" y="39625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495360" y="3556080"/>
            <a:ext cx="396252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533520" y="1447560"/>
            <a:ext cx="0" cy="990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507960" y="356868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4438800" y="354960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4432320" y="1460520"/>
            <a:ext cx="0" cy="99072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611280" y="1828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11280" y="3581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E8_12_LightDist"/>
          <p:cNvPicPr/>
          <p:nvPr/>
        </p:nvPicPr>
        <p:blipFill>
          <a:blip r:embed="rId1"/>
          <a:stretch/>
        </p:blipFill>
        <p:spPr>
          <a:xfrm>
            <a:off x="2244600" y="1371600"/>
            <a:ext cx="3318120" cy="225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1E8_12_Projections"/>
          <p:cNvPicPr/>
          <p:nvPr/>
        </p:nvPicPr>
        <p:blipFill>
          <a:blip r:embed="rId2"/>
          <a:stretch/>
        </p:blipFill>
        <p:spPr>
          <a:xfrm>
            <a:off x="2133720" y="3995640"/>
            <a:ext cx="701028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6630480" y="35812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kely-Gau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125160" y="3581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-Gau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.5x10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proton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No. 12, beam pu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240" y="152388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C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tensity distrib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mera settings o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0" y="40384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ght Yi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culated not only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uß-Fi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E8 particles, 2D binning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E8_12_2"/>
          <p:cNvPicPr/>
          <p:nvPr/>
        </p:nvPicPr>
        <p:blipFill>
          <a:blip r:embed="rId1"/>
          <a:stretch/>
        </p:blipFill>
        <p:spPr>
          <a:xfrm>
            <a:off x="0" y="1143000"/>
            <a:ext cx="609588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8120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502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istent integral counts in region of interest ~ 187025 / 1880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hor/vert. projections after offset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, Binned Raw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Time Evolution of Light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E8_12_2"/>
          <p:cNvPicPr/>
          <p:nvPr/>
        </p:nvPicPr>
        <p:blipFill>
          <a:blip r:embed="rId1"/>
          <a:stretch/>
        </p:blipFill>
        <p:spPr>
          <a:xfrm>
            <a:off x="0" y="1203480"/>
            <a:ext cx="3051000" cy="192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E8_13_2"/>
          <p:cNvPicPr/>
          <p:nvPr/>
        </p:nvPicPr>
        <p:blipFill>
          <a:blip r:embed="rId2"/>
          <a:stretch/>
        </p:blipFill>
        <p:spPr>
          <a:xfrm>
            <a:off x="3124080" y="1219320"/>
            <a:ext cx="3048120" cy="192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1E8_14_2"/>
          <p:cNvPicPr/>
          <p:nvPr/>
        </p:nvPicPr>
        <p:blipFill>
          <a:blip r:embed="rId3"/>
          <a:stretch/>
        </p:blipFill>
        <p:spPr>
          <a:xfrm>
            <a:off x="6093000" y="121932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E8_15_2"/>
          <p:cNvPicPr/>
          <p:nvPr/>
        </p:nvPicPr>
        <p:blipFill>
          <a:blip r:embed="rId4"/>
          <a:stretch/>
        </p:blipFill>
        <p:spPr>
          <a:xfrm>
            <a:off x="0" y="304812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E8_16_2"/>
          <p:cNvPicPr/>
          <p:nvPr/>
        </p:nvPicPr>
        <p:blipFill>
          <a:blip r:embed="rId5"/>
          <a:stretch/>
        </p:blipFill>
        <p:spPr>
          <a:xfrm>
            <a:off x="3124080" y="3048120"/>
            <a:ext cx="3051360" cy="192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E8_17_2"/>
          <p:cNvPicPr/>
          <p:nvPr/>
        </p:nvPicPr>
        <p:blipFill>
          <a:blip r:embed="rId6"/>
          <a:stretch/>
        </p:blipFill>
        <p:spPr>
          <a:xfrm>
            <a:off x="6093000" y="310680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E8_18_2"/>
          <p:cNvPicPr/>
          <p:nvPr/>
        </p:nvPicPr>
        <p:blipFill>
          <a:blip r:embed="rId7"/>
          <a:stretch/>
        </p:blipFill>
        <p:spPr>
          <a:xfrm>
            <a:off x="0" y="493560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E8_19_2"/>
          <p:cNvPicPr/>
          <p:nvPr/>
        </p:nvPicPr>
        <p:blipFill>
          <a:blip r:embed="rId8"/>
          <a:stretch/>
        </p:blipFill>
        <p:spPr>
          <a:xfrm>
            <a:off x="3124080" y="4935600"/>
            <a:ext cx="3051360" cy="1922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15260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7264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545960" y="1143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52604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5048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62228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526040" y="4952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650480" y="4876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0" descr="1E8_30_2"/>
          <p:cNvPicPr/>
          <p:nvPr/>
        </p:nvPicPr>
        <p:blipFill>
          <a:blip r:embed="rId9"/>
          <a:stretch/>
        </p:blipFill>
        <p:spPr>
          <a:xfrm>
            <a:off x="6093000" y="4935600"/>
            <a:ext cx="3051000" cy="192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7622280" y="4952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xponential Fit to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E8_Yield_TimeDependence"/>
          <p:cNvPicPr/>
          <p:nvPr/>
        </p:nvPicPr>
        <p:blipFill>
          <a:blip r:embed="rId1"/>
          <a:stretch/>
        </p:blipFill>
        <p:spPr>
          <a:xfrm>
            <a:off x="228600" y="2133720"/>
            <a:ext cx="3951360" cy="267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E9_Yield_TimeDependence_4"/>
          <p:cNvPicPr/>
          <p:nvPr/>
        </p:nvPicPr>
        <p:blipFill>
          <a:blip r:embed="rId2"/>
          <a:stretch/>
        </p:blipFill>
        <p:spPr>
          <a:xfrm>
            <a:off x="5051520" y="2130480"/>
            <a:ext cx="3940200" cy="2670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304920" y="1676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E8, 5.0V iris, No. 12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05520" y="1676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E9; 3.5V iris, No. 10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71760" y="5294160"/>
            <a:ext cx="472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t estimates of two time constants consi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(t) = exp(p0+p1 x t) + exp(p2+p3 x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1 = 29 m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2 = 56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cal meaning not def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E8 prot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E8_YieldAll_LogScale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ypical asymmetric camera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ght yield composed of at least 2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om other publications: 3 components of 3.4 ms, 6.7 ms, ~15 minutes deca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or to beam time background images should be stored to check analysis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ome Findings &amp; 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E9, 5.0 Volt, Yield Y,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 data (2 series / 300 images), overload in bea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E9_Trend_YieldY_All"/>
          <p:cNvPicPr/>
          <p:nvPr/>
        </p:nvPicPr>
        <p:blipFill>
          <a:blip r:embed="rId1"/>
          <a:stretch/>
        </p:blipFill>
        <p:spPr>
          <a:xfrm>
            <a:off x="0" y="1600200"/>
            <a:ext cx="3657600" cy="247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E9_Trend_YieldY_All_2"/>
          <p:cNvPicPr/>
          <p:nvPr/>
        </p:nvPicPr>
        <p:blipFill>
          <a:blip r:embed="rId2"/>
          <a:stretch/>
        </p:blipFill>
        <p:spPr>
          <a:xfrm>
            <a:off x="3733920" y="1600200"/>
            <a:ext cx="5257800" cy="3565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32200" y="40384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data (600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31520" y="5141880"/>
            <a:ext cx="441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ps indicate „missing“ extra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two data blocks are separated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Long term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ermediate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67080" y="472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6400800" y="472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936840" y="441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03120" y="4343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267080" y="4419720"/>
            <a:ext cx="41911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4952880" y="3429000"/>
            <a:ext cx="1371600" cy="4572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7315200" y="3580920"/>
            <a:ext cx="838080" cy="30492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6477120" y="3580920"/>
            <a:ext cx="457200" cy="2286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1E9_5Volt_No86_2DHisto"/>
          <p:cNvPicPr/>
          <p:nvPr/>
        </p:nvPicPr>
        <p:blipFill>
          <a:blip r:embed="rId3"/>
          <a:stretch/>
        </p:blipFill>
        <p:spPr>
          <a:xfrm>
            <a:off x="228600" y="4724280"/>
            <a:ext cx="3048120" cy="2067120"/>
          </a:xfrm>
          <a:prstGeom prst="rect">
            <a:avLst/>
          </a:prstGeom>
          <a:ln w="0">
            <a:noFill/>
          </a:ln>
        </p:spPr>
      </p:pic>
      <p:sp>
        <p:nvSpPr>
          <p:cNvPr id="119" name="Line 17"/>
          <p:cNvSpPr/>
          <p:nvPr/>
        </p:nvSpPr>
        <p:spPr>
          <a:xfrm flipV="1">
            <a:off x="3276720" y="4419720"/>
            <a:ext cx="1447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30760" y="4800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7391520" y="4038120"/>
            <a:ext cx="838080" cy="30492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V="1">
            <a:off x="6477120" y="4114440"/>
            <a:ext cx="457200" cy="2286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V="1">
            <a:off x="4952880" y="3886200"/>
            <a:ext cx="1371600" cy="4572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iter, Andreas Dr.</cp:lastModifiedBy>
  <dcterms:modified xsi:type="dcterms:W3CDTF">2014-06-04T10:15:47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